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0FD-C132-4761-9661-2184C1FA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71A-3D8D-4DA1-8252-7CFFCF8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BE1-2493-4F40-9742-DFD11427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24D-73A3-4CA1-A8D8-3C1687D3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6E4-2D4C-4C5D-932F-2071D3FD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754-215B-4E8C-83EC-13A67C9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3BC-836D-480D-BE8C-76AA4BCE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A60-3AEE-4BC7-8CE8-2FD92206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44F-5F94-4AB8-A4F2-6290126F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ADB-B954-464C-BAE5-0DF81B4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4A-FDCF-4926-814B-B7D8CE1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558-FC35-4AD7-B01F-B2A7BD0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818C-0ED3-4A07-BFBC-26B6C67B3550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ETDfrom PortOfCall, NextPor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3Days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24hours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DepartureNotification Details(OCC=0,1)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Notification InfoEUdepartures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NextPort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lDetails (OCC=0,1) or ContactDetails (OCC=0,1),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, 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2:33Z</dcterms:modified>
  <cp:revision>363</cp:revision>
  <dc:subject/>
  <dc:title>Slide 1</dc:title>
</cp:coreProperties>
</file>